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E08-EB9C-44DA-9DD8-94DB4FEC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99B-EA2C-4E44-8B59-9B5395E3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BEA-45B9-4693-BF4B-672DC0B2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D9E-2FEA-4BA3-B242-F182C540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6930-604E-4387-964E-9BF5EC25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154-ABCE-4B59-BED4-9F70268C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4FF-AC56-413F-A2BF-519DC1A7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545-411B-4179-AB33-E5BE8A3A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D03D-0B43-4528-88B7-9908A756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2637-3FE3-451E-8F6D-DEA1532B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DAC-DA9D-4DF9-8EA2-0E07D943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F7B8-9099-4D04-B49D-9CEABC8F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3CAD-8116-4201-BAC4-FD482EBA3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7524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ber laws, India’s needs and the Company Secretary’s r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 world 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ful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id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ber space 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 v/s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s of ad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ment gate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s, trickst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 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den/obscure ter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ber space and t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ty of care to a neighb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ty to act, duty not to harm [Weller &amp; Co vs Food and Mouth Disease Research Inst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v/s secondary dama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nings, disclaimers, limitation of 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human interaction; chain of ris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v/s requesting [Caparo V Dickma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berspace and IP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marks, service marks and domain n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copyright challenges [more later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ents for business models. The story of Jay Walker and priceline.com. Quid pro quo for patents and the Intern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 secrets and Echel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ber space and new business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azon.com and the corner book 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e a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sony on the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 driving or surf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chaup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ber space and the consu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 of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ance selling directives, OFT, SEC, F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cation of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entrality of tr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berspace and ta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ey laund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c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N for every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rect taxes – bits and by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t tigh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ber space and copy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everything on any website free for 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ed licenses, non derogation from gr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warding e 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source [manufacturing for masses v/s manufacturing by the masses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er fo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systems and monoculture r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v/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onnectivity v need for insu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wer intermediaries v more info-medi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bs conventional crime and facilities white collar or economic cr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cy for long term benefi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ber crim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g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fe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ty th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x eva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 vand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 terro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io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TP/U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es, Investment frau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rtising frau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eption/ tamp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m and 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ofing, shilling, bidding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mping and d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red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ber notaries? Sp. Certifying Authoriti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, certifications, aud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-regulation, “soft” infrastructu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velocity remedial syste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ur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es the law come 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y does what technology 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y is not concerned about rights, limits, obligations and remedies [from the knife to space exploration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the law is about all the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ils of Paperless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obsolesc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ce on power su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threats like dust,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ing risks for digital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nosecond nature of digital de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vacy (cont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protection obligations 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ful proc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ful 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ful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quacy test  - not exces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cy and up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persons conce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, information and knowledge. Knowing the difference can make a difference to your working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 life; virtual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have shifted to Cybersp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each of these has become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already in cyber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tai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a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sign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ledge sharing or acces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gle gets you 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low quiet revolutio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ely proportional to 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history and heritage a burden som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can the Internet keep the law out – remember the Declaration of Independence of Cyber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ATIONS FOR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and for corporate transparency r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provide disclosure zo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ing concern concept dy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threats to old businesses? Why your newspaper looks more like a TV and a websi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sts at the t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2B, B2C, C2B, C2C, P2P …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 algn="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a’s I T Act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equivalence, e-governance, offences, digital signatures and remedy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laws that appl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s, policies,  disclaimers and information security fill the gaps. [ Crucial role for CS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 in Cyber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off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ails like faxes; www like 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ils of mail bo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ail contracts versus web contr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about cyberspace 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allenge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repu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role of electronic signatures, CA, and the Public Key infra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5T11:01:30Z</dcterms:created>
  <dc:creator>V. Subramaniam</dc:creator>
  <dc:description/>
  <dc:language>en-US</dc:language>
  <cp:lastModifiedBy>AOADMN</cp:lastModifiedBy>
  <cp:lastPrinted>1999-10-05T12:10:35Z</cp:lastPrinted>
  <dcterms:modified xsi:type="dcterms:W3CDTF">2019-09-19T06:14:49Z</dcterms:modified>
  <cp:revision>55</cp:revision>
  <dc:subject/>
  <dc:title>CYBER LAWS - INDIA’S NEED  AND  THE COMPANY SECRETARY’S  ROLE</dc:title>
</cp:coreProperties>
</file>