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26BD-89FC-4722-AFF2-573CC1E6E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3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 1.3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2794-D0F8-4305-88DA-BDB7C8DD08B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349-8D9B-4DB3-9B10-8647A767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561-F8F6-4F70-B7CC-B97A3210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C48-7F07-4709-9508-70CCFE74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047-A8F8-4B62-A296-B909E543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FA08-B48A-4585-B3AB-2C2B3287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9092-39EC-44BB-8ADE-6B42151B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6788-5B5D-4E28-BED9-07D05F4F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5C89-3476-416F-B66D-C36E4633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E774-368B-46A5-8C64-81E85C71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984B-B868-4929-9567-FDFB2AB2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2ADC-8F01-4D63-B64B-8752AF02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C52-A907-4F26-8C1A-320DBD7A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657D-D7B5-4917-8F14-8C7DCBA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04EE-4DDA-4FD2-91DB-BB017ED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EC6D-31B9-4E25-9C79-7A0A323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3920-44D6-4041-89A0-63A18AF1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9FD1-40D2-4AA3-BE15-35FE0C92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EAA-E7F9-4643-96DE-F7C0C3BD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5A4-80C7-4EFE-8952-7FE4D01C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FAE-7BBA-4774-886A-9AAF92E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EBC-F91C-4B36-A1B8-01511D4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753-5704-47AF-ADF4-E810F8D8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167-05D6-45C5-9F62-7E2C9E9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54A-807D-4534-9D57-BF238A0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39DF-36B2-4A1B-A148-D4DFDF0F7B5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C11E-89D7-4597-BB2B-BDA47EB1E31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83D0-7D1F-4BCA-86F0-92545DF1C73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ay 1- Session III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tegories of fraud and corru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6CA6-AB98-46C8-B5B0-16218BDA730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ession overview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53960"/>
            <a:ext cx="77724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ategories of fraud and corrup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C236-41EE-4865-BBBC-B2F32AECA3B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earning Objectiv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urse participants will be able t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cognize different types of fraud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cognize the nature of corrup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7B89-F778-491E-8749-CD6972AB8A9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ategories of frau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nternal Fra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raud by employees, either singly or in collusion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raud by management or those charged with gover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ternal Fra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mmitted by the individual/group against the public sector with/without collusion with the employees/Management of public secto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110-F3BF-4889-949B-D317F901640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ypes of frau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mployee fra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ically involves misappropriation of cash or assets or embezzlement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lse statements and claim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7D61-6DF3-4D45-B45B-05A4687D6F0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raudulent financial reporting frau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 most cases, management is involve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ically involves falsification of accounts, suppression of material facts, wrong application of accounting principl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Measur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Recogni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Classifica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Presenta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Disclosur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4165-C704-42C5-AD8B-A34A2060651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5960" y="628560"/>
            <a:ext cx="714204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Nature of Corrup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tenci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Stencil"/>
              </a:rPr>
              <a:t>Exploit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isuse of public office by a public servant for favors from citizens in the discharge of official du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tenci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Stencil"/>
              </a:rPr>
              <a:t>Collus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volves collusion between decision makers in Govt., politics and busin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icti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/taxpay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7:21:09Z</dcterms:created>
  <dc:creator>rti</dc:creator>
  <dc:description/>
  <dc:language>en-US</dc:language>
  <cp:lastModifiedBy>HP</cp:lastModifiedBy>
  <dcterms:modified xsi:type="dcterms:W3CDTF">2015-12-30T06:25:59Z</dcterms:modified>
  <cp:revision>31</cp:revision>
  <dc:subject/>
  <dc:title>Day 1</dc:title>
</cp:coreProperties>
</file>