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FBC8-BA81-4E50-A63F-EAD523F2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632E-1C25-4168-BE1E-D9B23B356B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4780-5CDF-443E-B039-2B708AFC29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71D0-E297-4B44-A445-D590A096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D32F-C72A-44A7-A337-DB431C9A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019D-3AC9-4999-A89F-453F5861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F917-99BB-4982-A208-B43F2121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E34F-2C6C-4979-AFD3-00BDD44F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1203-B254-4671-B84C-6414D9DC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BE37-7103-4F71-BD97-BD5E8B7A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19A5-5274-494F-A5C7-FCD8F38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FF17-9CCA-4616-A8A5-1D9ABAE4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2946-3E94-489A-8605-503B4CAA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C1C8-AD02-42B8-9995-066D483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48CA-A856-4FF6-A41A-46F82F1F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CD96-C838-4F86-8880-C59FD27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099F-38EF-4B3A-858E-1842DC6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4B54-8B1B-4F56-87E1-8672F959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74B3-0C5C-46C0-9CB9-19633B6F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E97C-0A3F-4BCF-8901-6EE75B8B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595E-FA24-4A0D-B50C-C90A0B6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2CD4-3FE5-4FE1-A275-7DF68DA0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79A7-F1E9-4C22-BDD9-B18B180C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A2FA-4FDD-4FAC-B29F-4C89D095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78F4-F074-44CD-8127-4F6F5814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20C4-789A-45B4-9F64-743E6CFC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F048-A843-40B3-A3BF-A562CC8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2C7-C3FB-4D69-B394-FB4D57D1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I, Nagpur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TI, Nagpur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CE38-5613-41F9-83A0-601ECE168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F1EC-856F-421D-A97E-1DDC20FDE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4847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`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119240" y="3033720"/>
            <a:ext cx="6905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UDITING OF FRAUD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8F6C-C8F5-47A2-AF6A-64FF60766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ASOS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 algn="just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ud involves deliberate misrepresentation of facts/significant information to obtain undue or illegal advantage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A0F1-E63F-4FEA-85CF-B406415C8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Fraud – ISA 240 - Defini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 intentional act by one or more individuals among management, those charged with governance, employees or third parties involving the use of deception to obtain an unjust or illegal advantag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93FA-ADEB-4049-A338-6204301F2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Elements of frau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arties – the perpetrator and the vict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representation by deliberate intent through material omission or fals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injury or risk of injury to the victim as a result of the mis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a breach of trust and also amounts to criminal breach of trust in SAI  India jurisdiction. Fraud in most SAIs is a civil and criminal offence attracting both civil and criminal 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 by the perpetrator that the false representation be acted upon by the vict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CD1D-6AEF-476B-A98A-B8F6839762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250920"/>
            <a:ext cx="842796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38963"/>
                </a:solidFill>
                <a:latin typeface="Arial"/>
              </a:rPr>
              <a:t>Distinction between Fraud &amp; Error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ror is un-intentional unlike fraud that is characterised by deliberate i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ror is not accompanied by an attempt to cover up or conceal the mistake whereas fraud involves cover up devices such as collusion, forgery, deliberate omission or mis-re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B977-A177-4626-9DDF-1C9FD6C98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Why Fraud Aud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ud audit received powerful impetus from increased fraudulent activities both within corporate and Govt. enviro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ud occurrences have raised issues of governance and accoun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 of SAIs-INTOSAI and ASOSAI recognise that fraud and corruption result in disruption of accountability process with enormous leakage in public re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ealisation among SAIs for enhanced standards of auditing of fraud matters through a vigilant and pro-active r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930E-CFFD-4E09-AF3B-B703D602B1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498240"/>
            <a:ext cx="739116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Course 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nsitise the participants to fraud recognition and audit standards applicable in audit planning, implementation and reporting processes in audit of fra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595-B9D9-429B-B287-639764AC26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88560" y="369360"/>
            <a:ext cx="74250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Session over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fraud and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7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7960" indent="-507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of fraud and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4FC-361A-496D-A81C-51F7CEA29D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Meaning of ‘fraud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involving intention to dece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use private gain by illegal means or to cause injury or risk of injury to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1981080" y="274320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87C9-9955-4C62-BA52-7858047A04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756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Financial Fraud  conn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2000" indent="-16200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misrepresentation of financial information by one or more individuals among employees, management or third pa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62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ing falsification of reco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With 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uppression of vital in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nt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mission of significant information  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o Dece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51"/>
              </a:spcBef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isappropriation of assets, embezzl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51"/>
              </a:spcBef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isapplication of accounting poli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6629400" y="342900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114300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B2D-1978-429D-BF68-579076CEE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INCOSAI Uruguay 199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of deceit or breach of confidence used to gain some unfair or dishonest advantage; an unlawful interaction between two entities where one party intentionally deceives the other through the means of false representation in order to gain unjust advantag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9136-8195-4E61-B19F-DB74906DD9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Canadian Audit Guide 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on where there is a loss of valuable resources resulting from a false representation made knowingly without belief in its truth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F73A-9BCB-43C1-B75F-9FECD5809C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Fraud Examiners’ Man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intentional or deliberate act to deprive another of property or money by guile, deception or other unfair mean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2:16:22Z</dcterms:created>
  <dc:creator>Mr Nimje</dc:creator>
  <dc:description/>
  <dc:language>en-US</dc:language>
  <cp:lastModifiedBy>RTI</cp:lastModifiedBy>
  <dcterms:modified xsi:type="dcterms:W3CDTF">2015-12-28T07:54:59Z</dcterms:modified>
  <cp:revision>8</cp:revision>
  <dc:subject/>
  <dc:title>PowerPoint Presentation</dc:title>
</cp:coreProperties>
</file>