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8CC5C-D8FF-4162-9414-312A919698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de 1.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6F406-B0B1-4D26-8ADA-7B8C0E78B2B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064E-934C-4C0D-ADF3-AF8E9AFEC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FCA7-B535-4BF4-ABC0-54BD9B333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2B00-7911-4347-B9C5-CB388EEEF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0F40-22CE-4875-B4F7-444CA0ADC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36587-4CE3-4AFE-BEB0-9A4FB6085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AAF19-CFE5-4F9D-A205-A3EEB4F20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AF98F-B20E-403C-9B48-336873FFF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1661C-7C40-4546-BD97-85F8515FE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E7ED8-5FF3-4029-A6C2-A6348DC1D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A2918-91AB-47FF-AA46-8176ADAFD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38843-BB3D-4451-A26D-D1C241B6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F312-4233-4165-A757-8BFF7A270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407CD-CC72-4B4D-B8E6-A29EF218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08610-8CAA-4010-8AA1-2A0EDBEB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EF8A1-842B-4405-B4EC-D5BEA8E20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80BC6-0233-41B0-B943-BAD4B4B58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C4099-79D3-4970-A865-263FE0AA8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4AFC-A5D0-4A0A-B948-C9518CA2D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7E1A-6E28-4820-B40A-2EAE520EB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DC3F-8C4F-4946-8503-0F94ECFBF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5130-4291-4772-86D1-02BAD9CFF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78C4-199B-4E85-8A0C-D700B26C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2938-DC30-40B5-BB01-D47F0B65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8962-CB98-452D-A0EE-CA82AE12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Rectangle 1027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1028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Oval 1029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Oval 1030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Oval 1031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Oval 1032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Oval 1033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Oval 1034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Oval 1035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Oval 1036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Rectangle 1037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Oval 1038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Oval 1039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Oval 1040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TI, Nagp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D58F0-DE89-414D-A77D-F260898A65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Rectangle 3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Rectangle 4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Oval 5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Oval 6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Oval 7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Oval 8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Oval 9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Oval 10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Oval 11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Oval 12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Oval 13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Group 14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Oval 15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Oval 16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Oval 17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Oval 18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Oval 19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Oval 20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Oval 21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Oval 22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Oval 23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Group 24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Freeform 25"/>
              <p:cNvSpPr/>
              <p:nvPr/>
            </p:nvSpPr>
            <p:spPr>
              <a:xfrm>
                <a:off x="0" y="3800520"/>
                <a:ext cx="703440" cy="1639800"/>
              </a:xfrm>
              <a:prstGeom prst="pi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Freeform 26"/>
              <p:cNvSpPr/>
              <p:nvPr/>
            </p:nvSpPr>
            <p:spPr>
              <a:xfrm>
                <a:off x="601560" y="3693960"/>
                <a:ext cx="1308240" cy="1909800"/>
              </a:xfrm>
              <a:prstGeom prst="pi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Freeform 27"/>
              <p:cNvSpPr/>
              <p:nvPr/>
            </p:nvSpPr>
            <p:spPr>
              <a:xfrm>
                <a:off x="841320" y="4498920"/>
                <a:ext cx="100080" cy="115920"/>
              </a:xfrm>
              <a:prstGeom prst="pi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TI, Nagp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C6525-341F-43C2-AA10-8C9E588E79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3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TI, Nagpu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3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2C3C2-670C-4576-B66A-2BE31E1189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ession IV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us operandi of fraud and factors influencing frau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TI, Nagpu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555B3-280D-4336-A122-839AF78B4E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Modus Operandi of frauds (Contd.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"/>
              </a:rPr>
              <a:t>Manipulation of accou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der valuation of sto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 valuation of sto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ctitious purch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ong allocation of revenue and capital ex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ording next year’s revenue as income for current period as income for current peri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statement of profit or understatement of prof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 or under invoic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TI, Nagpu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FAFC7-544B-49A4-B808-364EE11AA3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raud &amp; corruption may co-exist in certain way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flict of interest situ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n existent company whose invoice is presented by an official involved in purchase pro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cess purchases with a view to divert for personal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lit purchases to evade competitive bidding in exchange of favou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or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pot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x or duty evasion through false representation involving negligence of Govt. offi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TI, Nagpu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6466A-FEE2-4280-B4A5-73082874C2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6120" y="894960"/>
            <a:ext cx="714204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actors influencing fraud &amp; corrup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Why need to examine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To enable auditor to appreciate potential risk of fraud emanating from individual &amp; organizational causes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Motivational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economic – financial gain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Greed/</a:t>
            </a:r>
            <a:r>
              <a:rPr b="0" lang="en-US" sz="2900" spc="-1" strike="noStrike">
                <a:solidFill>
                  <a:srgbClr val="ff0000"/>
                </a:solidFill>
                <a:latin typeface="Times New Roman"/>
              </a:rPr>
              <a:t>Need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prestige or recognition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moral superiority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TI, Nagpu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4451-24A2-43E7-9961-91DFADB99C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06280" y="723600"/>
            <a:ext cx="714204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actors influencing fraud &amp; corruption (Contd.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ganisat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sensitive management that judges employees on short term resul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gue policies, inadequate internal control &amp; accountability, history of ab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w compliance of regulatory requirement, high turnover of employees, lack of transparency in reward sys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tionalization of actions that ends justify the means, either at the individual level or at the level of organization, the external perpetrator/accomplice might argue that corruption is a cost of doing busines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TI, Nagpu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97DFA-6BF6-49E6-92B1-BDF80431B9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ession Over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ral modus operandi of financial frau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ahoma"/>
              </a:rPr>
              <a:t>Understand the individual and organizational environments in motivating fraud in workpla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TI, Nagpu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A6C30-B33B-462F-AB6C-86B587A93B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35120" indent="-735120" algn="just">
              <a:spcBef>
                <a:spcPts val="799"/>
              </a:spcBef>
              <a:buClr>
                <a:srgbClr val="ffffff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icipants will develop an insight on modus operandi of frauds and also the motivational and  organisational factors responsible for the crim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Times New Roman"/>
              </a:rPr>
              <a:t>Different types of fraud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440" y="16765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ployee fraud against employers, e.g. payroll fraud; falsifying expense claims; thefts of cash, assets, false accoun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aud by individuals or businesses against government, e.g. grant fraud; social security benefit claim frauds; tax eva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aud by people using computers and technology to commit crimes, e.g. phishing; spamming; copyright crimes; hacking; social engineering frau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ABDE2-5F3C-4286-82F2-5746A2FA9E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Times New Roman"/>
              </a:rPr>
              <a:t>Different types of fraud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0" y="16002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aud by businesses against investors, consumers and employees, e.g. financial statement fraud; selling counterfeit goods as genuine ones; not paying over tax or National Insurance contributions paid by staf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aud by professional criminals against major organizations, e.g. major counterfeiting  rings ; mortgage frauds; ‘advance fee’ frauds; corporate identity fraud; money laund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TI, Nagpu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00CFF-3ED8-49FC-9C48-0D686DD5EC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TI, Nagpu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0EF00-68CF-4970-B890-3B63235173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95280" y="685800"/>
            <a:ext cx="714240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bcbcb"/>
                </a:solidFill>
                <a:latin typeface="Times New Roman"/>
              </a:rPr>
              <a:t>Modus Operandi of frauds</a:t>
            </a:r>
            <a:endParaRPr b="0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"/>
              </a:rPr>
              <a:t>Misappropriation of cash or embezzlement of cas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Receipts side of cash b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mitting to enter cash receiv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der-recording of ca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rding lower amount on counterfoils than actual receip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AutoShape 4"/>
          <p:cNvSpPr/>
          <p:nvPr/>
        </p:nvSpPr>
        <p:spPr>
          <a:xfrm>
            <a:off x="1143000" y="3200400"/>
            <a:ext cx="228600" cy="3200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AutoShape 5"/>
          <p:cNvSpPr/>
          <p:nvPr/>
        </p:nvSpPr>
        <p:spPr>
          <a:xfrm>
            <a:off x="0" y="2666880"/>
            <a:ext cx="914400" cy="1981440"/>
          </a:xfrm>
          <a:custGeom>
            <a:avLst/>
            <a:gdLst>
              <a:gd name="textAreaLeft" fmla="*/ 122400 w 914400"/>
              <a:gd name="textAreaRight" fmla="*/ 792000 w 914400"/>
              <a:gd name="textAreaTop" fmla="*/ 346680 h 1981440"/>
              <a:gd name="textAreaBottom" fmla="*/ 14367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TI, Nagpu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C07F3-6102-4D4F-B4AC-58D3CB1A10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85345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Modus Operandi of frauds (Contd.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"/>
              </a:rPr>
              <a:t>Payments si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lse charging of personal expen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uble payments against single trans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lusion of dummy workers in wage bi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lse credit to various personal accounts for withdrawal l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ctitious pay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-recording of actual pay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TI, Nagpu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98DED-B4D0-4128-AB27-E103C3D809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Modus Operandi of frauds (Contd.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55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51080" indent="-451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"/>
              </a:rPr>
              <a:t>Other forms of embezzl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1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36160" indent="-504000">
              <a:spcBef>
                <a:spcPts val="649"/>
              </a:spcBef>
              <a:buClr>
                <a:srgbClr val="ffffff"/>
              </a:buClr>
              <a:buFont typeface="Wingdings" charset="2"/>
              <a:buChar char="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eeming &amp; lading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136160" indent="-504000" algn="just">
              <a:spcBef>
                <a:spcPts val="649"/>
              </a:spcBef>
              <a:buClr>
                <a:srgbClr val="ffffff"/>
              </a:buClr>
              <a:buFont typeface="Wingdings" charset="2"/>
              <a:buChar char="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epositing funds at one branch by using  inter-branch account settlement process and withdrawing funds from a different branch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136160" indent="-504000" algn="just">
              <a:spcBef>
                <a:spcPts val="649"/>
              </a:spcBef>
              <a:buClr>
                <a:srgbClr val="ffffff"/>
              </a:buClr>
              <a:buFont typeface="Wingdings" charset="2"/>
              <a:buChar char="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Using correction entries to embezzle money from accounts, transferring funds from other accounts to make up shortag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136160" indent="-504000" algn="just">
              <a:spcBef>
                <a:spcPts val="649"/>
              </a:spcBef>
              <a:buClr>
                <a:srgbClr val="ffffff"/>
              </a:buClr>
              <a:buFont typeface="Wingdings" charset="2"/>
              <a:buChar char="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Kiting-withdrawals against cheques that have not been collecte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136160" indent="-504000" algn="just">
              <a:spcBef>
                <a:spcPts val="649"/>
              </a:spcBef>
              <a:buClr>
                <a:srgbClr val="ffffff"/>
              </a:buClr>
              <a:buFont typeface="Wingdings" charset="2"/>
              <a:buChar char="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Lapping-stealing of cash from accounts receivabl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TI, Nagpu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06419-AB30-4887-936B-27B266D74F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Modus Operandi of frauds (Contd.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"/>
              </a:rPr>
              <a:t>Mis-appropriation of goods &amp;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mitting to enter goods receiv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rding less quantity than receiv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rding excess issue than actually issu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curement of low quality goo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ring services at high c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2T13:37:40Z</dcterms:created>
  <dc:creator>Mr Nimje</dc:creator>
  <dc:description/>
  <dc:language>en-US</dc:language>
  <cp:lastModifiedBy>Hatawar</cp:lastModifiedBy>
  <dcterms:modified xsi:type="dcterms:W3CDTF">2014-10-21T10:22:32Z</dcterms:modified>
  <cp:revision>33</cp:revision>
  <dc:subject/>
  <dc:title>Session IV</dc:title>
</cp:coreProperties>
</file>