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.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62D1-1277-44FA-8290-360F1B3F7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 1.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654D-BC3B-4C7D-AD29-5E526121A2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15C4-B808-4B26-8FA4-9E86D4D7C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E9F9-0FDB-4E14-81C1-ECDFE37E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E9EE-3E6C-4013-9BDB-CCAEE06C0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972C-4CC9-4E89-9AC9-92E8AB733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4849B-EABF-4695-81F6-3F7806C83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FE8CB-51B7-448B-9549-E591704B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FA6A49-D93C-433F-AFF8-40845DC7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95BF7-1D43-43BC-96D2-1982C5D1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0056B-E17E-46CB-9A39-3B82B91F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32CB4-8DDB-49C6-A5D1-7C35E84C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904E8-4FB9-4F17-84DA-11B8A1EA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0816-D06F-4871-B099-1FBF9231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1C8EB-F3AC-41FB-AB7A-2BF986A8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F4BC0-A442-4718-84AA-0BB6B442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821FD-2061-4E19-B485-1BD3CEDD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6F88B-102A-4196-BD06-3B1165984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C6ACF-9E81-4DB8-874D-AE948C0AA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64FD-88E3-422C-BE05-157B51CC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725A-0EE4-4922-81BB-832426BE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C0FC-9C94-4BB0-82E4-4FE5C003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7AA2-304B-4A8B-84AD-F3F8D7BC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7488-96BE-45DC-BED8-E4791A3F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2555-0721-4D12-B74C-E046168B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CD46-67C2-47E0-89C5-DB0DD455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TI, Nagpu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12B2-8F7B-4023-A2F7-B0FAEE10A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TI, Nagpu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152E-AEAD-4CC8-A20C-16207017E4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TI, Nagpu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C4DE-C199-4A73-ABBA-85E0FAE137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ay 1-SessionI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standing fraud and corrup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TI, Nagpu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F454-945C-475E-8366-EAB1A9EC45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Session Over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9600" indent="-579600">
              <a:spcBef>
                <a:spcPts val="799"/>
              </a:spcBef>
              <a:buClr>
                <a:srgbClr val="990000"/>
              </a:buClr>
              <a:buSzPct val="120000"/>
              <a:buFont typeface="Arial Unicode MS"/>
              <a:buChar char="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Understanding corrup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9600" indent="-579600">
              <a:spcBef>
                <a:spcPts val="799"/>
              </a:spcBef>
              <a:buClr>
                <a:srgbClr val="990000"/>
              </a:buClr>
              <a:buSzPct val="120000"/>
              <a:buFont typeface="Arial Unicode MS"/>
              <a:buChar char="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Audit mandate and audit mandate within SAI Ind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9600" indent="-579600">
              <a:spcBef>
                <a:spcPts val="799"/>
              </a:spcBef>
              <a:buClr>
                <a:srgbClr val="990000"/>
              </a:buClr>
              <a:buSzPct val="120000"/>
              <a:buFont typeface="Arial Unicode MS"/>
              <a:buChar char="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ASOSAI understanding in fighting fraud and corrup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9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TI, Nagpu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BC4B-5C21-4AF9-924B-59F9D16261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6868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0066"/>
                </a:solidFill>
                <a:latin typeface="Tahoma"/>
              </a:rPr>
              <a:t>Definition of ‘Corruption’ – Prevention of Corruption Act, 1988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120000"/>
              <a:buFont typeface="Arial Unicode MS"/>
              <a:buChar char="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Act involving illegal gratification by public servant for himself or for any other person  as a reward in discharge of official dut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120000"/>
              <a:buFont typeface="Arial Unicode MS"/>
              <a:buChar char="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Act involving illegal gratification for inducing another public servant through personal influence to do a favour or any disfavou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120000"/>
              <a:buFont typeface="Arial Unicode MS"/>
              <a:buChar char="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Habitual acceptance of gratification by a public servant other than legal remuneration as a motive or obtaining valuable thing without adequate consideration or misappropriation of property entrusted by dishonest means is criminal miscondu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Also involves criminal breach of trus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TI, Nagpu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CE8F-F6B2-4858-A4CB-013E46FA4E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541440"/>
            <a:ext cx="8275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66"/>
                </a:solidFill>
                <a:latin typeface="Tahoma"/>
              </a:rPr>
              <a:t>Elements of ‘Corruption’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61960" indent="-561960" algn="just">
              <a:spcBef>
                <a:spcPts val="825"/>
              </a:spcBef>
              <a:buClr>
                <a:srgbClr val="990000"/>
              </a:buClr>
              <a:buSzPct val="120000"/>
              <a:buFont typeface="Arial Unicode MS"/>
              <a:buChar char="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99"/>
                </a:solidFill>
                <a:latin typeface="Tahoma"/>
              </a:rPr>
              <a:t>Two parties – one offering reward/inducement and the other accepting the same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561960" indent="-561960" algn="just">
              <a:spcBef>
                <a:spcPts val="825"/>
              </a:spcBef>
              <a:buClr>
                <a:srgbClr val="990000"/>
              </a:buClr>
              <a:buSzPct val="120000"/>
              <a:buFont typeface="Arial Unicode MS"/>
              <a:buChar char="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99"/>
                </a:solidFill>
                <a:latin typeface="Tahoma"/>
              </a:rPr>
              <a:t>Involves misuse of office for private gain.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561960" indent="-561960" algn="just">
              <a:spcBef>
                <a:spcPts val="825"/>
              </a:spcBef>
              <a:buClr>
                <a:srgbClr val="990000"/>
              </a:buClr>
              <a:buSzPct val="120000"/>
              <a:buFont typeface="Arial Unicode MS"/>
              <a:buChar char="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99"/>
                </a:solidFill>
                <a:latin typeface="Tahoma"/>
              </a:rPr>
              <a:t>Involves dishonest use or breach of trust of office or authority.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561960" indent="-561960" algn="just">
              <a:spcBef>
                <a:spcPts val="825"/>
              </a:spcBef>
              <a:buClr>
                <a:srgbClr val="990000"/>
              </a:buClr>
              <a:buSzPct val="120000"/>
              <a:buFont typeface="Arial Unicode MS"/>
              <a:buChar char="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99"/>
                </a:solidFill>
                <a:latin typeface="Tahoma"/>
              </a:rPr>
              <a:t>Involves actual or potential risk of loss or misappropriation of public property.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TI, Nagpu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83FC-04A5-490D-829B-25AC4EB26B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220680"/>
            <a:ext cx="827568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any cases of fraud involve corrup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120000"/>
              <a:buFont typeface="Arial Unicode MS"/>
              <a:buChar char="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Most financial reporting fraud involves misstatement throug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Manipulation of accounting recor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Misrepresentation or intentional omission of events, transactions or 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other significant inform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Intentional misapplication of accounting policies principles relating to amount, classification and disclosu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TI, Nagpu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32BA-24AB-4438-B2FB-393BBD234D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Audit mandat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76"/>
              </a:spcBef>
              <a:buClr>
                <a:srgbClr val="990000"/>
              </a:buClr>
              <a:buSzPct val="120000"/>
              <a:buFont typeface="Arial Unicode MS"/>
              <a:buChar char="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</a:rPr>
              <a:t>Most SAIs have inherent right to audit cases of fraud during discharge of audit functions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876"/>
              </a:spcBef>
              <a:buClr>
                <a:srgbClr val="990000"/>
              </a:buClr>
              <a:buSzPct val="120000"/>
              <a:buFont typeface="Arial Unicode MS"/>
              <a:buChar char="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</a:rPr>
              <a:t>Such duties are derived from the duty to ensure that adequate and effective machinery is in place to obtain accountability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TI, Nagpu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2088-F2A5-45AE-9F61-1224C48BD4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236520"/>
            <a:ext cx="8275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66"/>
                </a:solidFill>
                <a:latin typeface="Tahoma"/>
              </a:rPr>
              <a:t>ASOSAI recommendations for fraud deterrence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120000"/>
              <a:buFont typeface="Arial Unicode MS"/>
              <a:buChar char="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Adequate level of financial and operative independence and breadth of audit covera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120000"/>
              <a:buFont typeface="Arial Unicode MS"/>
              <a:buChar char="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Vigorous evaluation of adequacy and efficacy of financial and internal control syste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120000"/>
              <a:buFont typeface="Arial Unicode MS"/>
              <a:buChar char="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Focused audit strategy for high risk areas through developing effective high risk indicato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120000"/>
              <a:buFont typeface="Arial Unicode MS"/>
              <a:buChar char="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Exchange of information co-operation among national and international bodies fighting corrup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120000"/>
              <a:buFont typeface="Arial Unicode MS"/>
              <a:buChar char="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Intensify exchange of experiences of fraud and corruption among SA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2T12:18:18Z</dcterms:created>
  <dc:creator>Mr Nimje</dc:creator>
  <dc:description/>
  <dc:language>en-US</dc:language>
  <cp:lastModifiedBy>RTI</cp:lastModifiedBy>
  <dcterms:modified xsi:type="dcterms:W3CDTF">2015-12-28T07:57:13Z</dcterms:modified>
  <cp:revision>8</cp:revision>
  <dc:subject/>
  <dc:title>PowerPoint Presentation</dc:title>
</cp:coreProperties>
</file>