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96C-B059-487A-B6A2-85B4FD2A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237-9341-4EA9-A99E-B861CEB1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7F4-EF92-4EB5-8557-6884C64A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A3D-9365-46EC-BC8C-EF26EC19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2CCA-4770-4D1C-B634-833B165C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5B02-D913-4EDE-96DA-A4E04E81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FC45-DF40-4F74-966E-E6F5D163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C495-DDCE-43F3-A99B-973CD22D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914A-A4C3-4DB6-868F-05789195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3CD1-F649-4A45-B552-0F3C6DC1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B99C-84DC-4575-8B9E-5BFE2E4D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570-8911-42D6-8C27-C2A84389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B8EA-6891-4AB0-803D-12923A7A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4B07-1586-4185-9546-AD7704DE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AFA5-2B09-4C86-AD86-66772D77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EEBF-1306-4B32-A8DB-2C9C78E0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4B8B-4C38-4962-BB85-EED25AB6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C90-A068-4AB0-80A9-FC435374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490-F88F-47CC-9CC0-177929C3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0DA-FABC-4D38-9F27-502EEB1D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5CC-51AE-4264-8969-CA4D31DD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978-84CC-41E4-B1D3-95FB3443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378-57EF-4031-BAF3-46366803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50F-96EA-41B0-9F9F-61F8AAA0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389F-6DCB-4D57-A06D-A4420ADAB256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E643-8940-4137-9DCD-C851DA46E29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92340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ents Sensitization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osure to people friendly nee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r. Archana Shar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ective ways to connect with your client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use one size fits all approa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pond to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eep it personal, not transact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cus on face-to-face interac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ow with your current clients in mi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w your appreci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3581280" y="5791320"/>
            <a:ext cx="4572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Line 4"/>
          <p:cNvSpPr/>
          <p:nvPr/>
        </p:nvSpPr>
        <p:spPr>
          <a:xfrm flipH="1">
            <a:off x="3580920" y="1295280"/>
            <a:ext cx="213372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5715000" y="1295280"/>
            <a:ext cx="243828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267080" y="449568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4724280" y="3429000"/>
            <a:ext cx="2133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257800" y="228600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533520" y="7010280"/>
            <a:ext cx="759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1295280" y="1523520"/>
            <a:ext cx="0" cy="4038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40640" y="34596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ood relationsh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87640" y="5527800"/>
            <a:ext cx="22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or relationsh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5013720" y="48420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5242680" y="36226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5319360" y="2479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o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5926680" y="14130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ti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2047680" y="6289560"/>
            <a:ext cx="43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 CUSTOMER  PYRAM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stomer Relationship Manage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M is referred to a set of strategies, programmes and systems which focuses on identifying and building loyalty with the bank’s most valued customer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ree Goals of CR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ilding Relationship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ntaining relationship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hancement of relationship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eps involved in the CRM proc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thering client data and constructing a client data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alysing client data and identifying target custom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 CRM programmes for the different client seg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ffective implementation of CRM program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client database must contain the following information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cord of client’s interactions with the Compan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ent preferen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scriptive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do clients complain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tain compensation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ent their anger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lp to improve the service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andling Customer Complaints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t quick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mit mistak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w that you understand the problem from the client’s point of vie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rgu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knowledge the client’s feeling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clients the benefit of doub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rify the steps needed to solve the probl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eep them informed of progr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rsevere to regain customer goodwi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960280" y="2784600"/>
            <a:ext cx="225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 of the “Service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angi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separa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ria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risha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3"/>
          <p:cNvSpPr/>
          <p:nvPr/>
        </p:nvSpPr>
        <p:spPr>
          <a:xfrm>
            <a:off x="1981080" y="5029200"/>
            <a:ext cx="4724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Line 4"/>
          <p:cNvSpPr/>
          <p:nvPr/>
        </p:nvSpPr>
        <p:spPr>
          <a:xfrm flipH="1">
            <a:off x="1980720" y="1371600"/>
            <a:ext cx="2210040" cy="3657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4191120" y="1371600"/>
            <a:ext cx="2514600" cy="3657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497040" y="72720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sul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22240" y="5070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mploye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856120" y="50706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583280" y="232740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164560" y="2174760"/>
            <a:ext cx="14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259080" y="4994280"/>
            <a:ext cx="14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819160" y="1371600"/>
            <a:ext cx="990360" cy="1371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 flipH="1">
            <a:off x="1600200" y="3124080"/>
            <a:ext cx="990720" cy="15242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4648320" y="1447920"/>
            <a:ext cx="609480" cy="838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5715000" y="2971800"/>
            <a:ext cx="1143000" cy="1600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362320" y="533412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4800600" y="5334120"/>
            <a:ext cx="10666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132480" y="606096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rvices Marketing Triang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H="1">
            <a:off x="2209680" y="914400"/>
            <a:ext cx="1905120" cy="3657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209680" y="457200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914400"/>
            <a:ext cx="2514600" cy="3657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95120" y="1184400"/>
            <a:ext cx="76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g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336120" y="255600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ddle mg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259080" y="385128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nt line sta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425960" y="560376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ditional Organisational Pyram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1828800" y="4876920"/>
            <a:ext cx="4952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1828800" y="1828800"/>
            <a:ext cx="2209680" cy="30481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4038480" y="1828800"/>
            <a:ext cx="2743200" cy="30481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000" y="537516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nverted Pyramid with a Client and Frontline Foc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800440" y="3774960"/>
            <a:ext cx="32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ddle mgt.and top mg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ort the front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641400" y="209880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nt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565440" y="1936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 flipV="1">
            <a:off x="4114800" y="60948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4114800" y="106668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249440" y="80316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 Moments of truth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 flipV="1">
            <a:off x="3581280" y="289512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Line 13"/>
          <p:cNvSpPr/>
          <p:nvPr/>
        </p:nvSpPr>
        <p:spPr>
          <a:xfrm flipV="1">
            <a:off x="4191120" y="297144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 flipV="1">
            <a:off x="4876920" y="29714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ints of Customer Interaction: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setting of the office–exterior, interi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ngibles –tools, equipment, furni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ystems –the queue system, process sys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-custom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act employ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ther employees on the line of visi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gnage and other communication material –sign boards, directions, displayed rules and regul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ther facilities –drinking water, toilets, ventilatio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ments of Tru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moted by Jan Carlson, the CEO of Scandinavian Airli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ied 50,000 daily moments of truth with the custom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26"/>
          <p:cNvSpPr/>
          <p:nvPr/>
        </p:nvSpPr>
        <p:spPr>
          <a:xfrm>
            <a:off x="762120" y="1523880"/>
            <a:ext cx="2057400" cy="4953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1027"/>
          <p:cNvSpPr/>
          <p:nvPr/>
        </p:nvSpPr>
        <p:spPr>
          <a:xfrm>
            <a:off x="6324480" y="1600200"/>
            <a:ext cx="2362320" cy="48769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028"/>
          <p:cNvSpPr/>
          <p:nvPr/>
        </p:nvSpPr>
        <p:spPr>
          <a:xfrm>
            <a:off x="898560" y="8794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1029"/>
          <p:cNvSpPr/>
          <p:nvPr/>
        </p:nvSpPr>
        <p:spPr>
          <a:xfrm>
            <a:off x="6689880" y="8794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om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1031"/>
          <p:cNvSpPr/>
          <p:nvPr/>
        </p:nvSpPr>
        <p:spPr>
          <a:xfrm>
            <a:off x="822240" y="1565280"/>
            <a:ext cx="207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sonal need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lf image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festy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ility 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for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llingness 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for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tuatio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s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al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033"/>
          <p:cNvSpPr/>
          <p:nvPr/>
        </p:nvSpPr>
        <p:spPr>
          <a:xfrm>
            <a:off x="6384600" y="1641600"/>
            <a:ext cx="2062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sonal nee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lf im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festy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ility 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ticip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llingness 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ticip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tuatio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s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ri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ord of 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Line 1034"/>
          <p:cNvSpPr/>
          <p:nvPr/>
        </p:nvSpPr>
        <p:spPr>
          <a:xfrm>
            <a:off x="2895480" y="1523880"/>
            <a:ext cx="1219320" cy="198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Line 1035"/>
          <p:cNvSpPr/>
          <p:nvPr/>
        </p:nvSpPr>
        <p:spPr>
          <a:xfrm flipV="1">
            <a:off x="2895480" y="3504960"/>
            <a:ext cx="1219320" cy="2971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Line 1036"/>
          <p:cNvSpPr/>
          <p:nvPr/>
        </p:nvSpPr>
        <p:spPr>
          <a:xfrm flipH="1">
            <a:off x="5105520" y="1600200"/>
            <a:ext cx="1218960" cy="19051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1037"/>
          <p:cNvSpPr/>
          <p:nvPr/>
        </p:nvSpPr>
        <p:spPr>
          <a:xfrm flipH="1" flipV="1">
            <a:off x="5105520" y="3504960"/>
            <a:ext cx="1218960" cy="2971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1038"/>
          <p:cNvSpPr/>
          <p:nvPr/>
        </p:nvSpPr>
        <p:spPr>
          <a:xfrm>
            <a:off x="3641760" y="2174760"/>
            <a:ext cx="17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rvic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coun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1039"/>
          <p:cNvSpPr/>
          <p:nvPr/>
        </p:nvSpPr>
        <p:spPr>
          <a:xfrm>
            <a:off x="3945960" y="3927600"/>
            <a:ext cx="163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ments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1040"/>
          <p:cNvSpPr/>
          <p:nvPr/>
        </p:nvSpPr>
        <p:spPr>
          <a:xfrm>
            <a:off x="298440" y="-34920"/>
            <a:ext cx="68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NAGEMENT OF MOMENTS OF TR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1042"/>
          <p:cNvSpPr/>
          <p:nvPr/>
        </p:nvSpPr>
        <p:spPr>
          <a:xfrm>
            <a:off x="1219320" y="380880"/>
            <a:ext cx="57909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9:36:21Z</dcterms:created>
  <dc:creator>Archana Sharma</dc:creator>
  <dc:description/>
  <dc:language>en-US</dc:language>
  <cp:lastModifiedBy>archana</cp:lastModifiedBy>
  <dcterms:modified xsi:type="dcterms:W3CDTF">2019-07-09T10:52:30Z</dcterms:modified>
  <cp:revision>42</cp:revision>
  <dc:subject/>
  <dc:title>Marketing in the “Banking Sector”</dc:title>
</cp:coreProperties>
</file>