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2B4-71F6-429E-BAEF-1C6A08B2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F1-764E-4882-80F7-B426D1DD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FF1-9160-4EC7-8A8B-C84B7D48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71F-9558-4527-89A7-FB35F400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463-22AE-49C5-900B-DF2ED6B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67A4-3E25-4185-BECF-6C9B5460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BAE5-C3B3-4AE6-94FF-886CE2B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C341-78B9-4465-A98C-2D44E90B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804B-99D6-4A26-8168-7AAC918D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CEA9-9185-4E78-A542-5F1B9E9A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6DC-6109-40F2-8D51-A6EC58D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D35-90F0-4291-8A10-344B2FE2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C33A-E37A-4B32-A5DA-2951050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9709-E01D-44FA-B00D-047F657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8111-54BB-4D1F-9972-877BBA4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F9A-0539-49DB-9BE6-40428CBE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D9B9-3111-4CB9-8C29-73F753BD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F0E-C318-4AA3-B6E3-445FD7A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0EE-2A31-4A4D-8CB2-89D21EB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D5D-A2E0-4AF1-815B-D0494F8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965-E147-48A9-9B39-32EF423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BC6-5A12-40C8-BE5D-6EAC4E5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467-E7AB-42C8-94D9-148AC9E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810-48D5-442F-BE29-3FD941F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6F2-A9DD-4163-9BC4-E4F4011D6AA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46A9-1DE3-40BC-B417-61A8EBBDCD7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RSONAL EFFECT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ORING K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nter your responses, below after reversing (*) marked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riginal Responses     0   1   2   3   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evised Responses      4   3   2   1   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elf- Disclosure : *1, *4, *7, *10, 13 =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enness to Feedback:  2, *5, 8, *11, 14 =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Perceptiveness : *3, *6, 9, *12, *15 =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Write L or H in the parenthesis against each of the three total scores; if the total score is 10 or below, write L; if the score is above 10, write 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23880" y="1397160"/>
          <a:ext cx="6705720" cy="4889520"/>
        </p:xfrm>
        <a:graphic>
          <a:graphicData uri="http://schemas.openxmlformats.org/drawingml/2006/table">
            <a:tbl>
              <a:tblPr/>
              <a:tblGrid>
                <a:gridCol w="1752840"/>
                <a:gridCol w="1676160"/>
                <a:gridCol w="1600200"/>
                <a:gridCol w="16765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ELF-DISCLOSUR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PENNES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 FEEDBAC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ERCEPTIVENES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SENSI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GOCENTR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OGMAT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ECRE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ASK-OBSESSE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NELY EMPATH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EFFEC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981080" y="182880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NOWN TO OTH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NKNOWN TO OTH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NOWN TO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RENA OR PUBLIC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LOSED ARE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NKNOWN TO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LIND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RK ARE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505320" y="36576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510552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6080" y="95580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JOHARI WINDO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rena or Public Self: This part of an Individual’s behaviour known both to himself and to those with whom he inter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lind Area: Contains those aspects of the person’s behaviour and style that others know but the person himself does not know abou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osed Area: That which known to the person but not revealed to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rk Area: Inaccessible to both self and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Arena or Open Space is critical for personal effective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rena increases in proportion to the decrease in the blind and the closed ar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PEN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f- disclosure: Sharing with others what others do not seem to know about one’s sel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eedback: Being open to what others say on aspects which one may not be aware o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penness without accompanying sensitivity to others in a situ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result from insensitivity to the recipients of the communicatio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rcept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itivity to others’ feelings and non-verbal cues</a:t>
            </a:r>
            <a:br>
              <a:rPr sz="3200"/>
            </a:b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Leads 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rategic Openness: Determining how much open data flow the system can sta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ceiving Feedbac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gative Feedback creates dissonance with self-image, and may be threatening to the ego, leads to the defensive behavio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ensive Behaviour does not serve the behaviour, may reduce anxiety, the conflict in the self is not resolv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0:10:45Z</dcterms:created>
  <dc:creator>S ROY</dc:creator>
  <dc:description/>
  <dc:language>en-US</dc:language>
  <cp:lastModifiedBy>Kaushik R Ray</cp:lastModifiedBy>
  <dcterms:modified xsi:type="dcterms:W3CDTF">2008-03-18T17:30:03Z</dcterms:modified>
  <cp:revision>8</cp:revision>
  <dc:subject/>
  <dc:title> PERSONAL EFFECTIVENESS</dc:title>
</cp:coreProperties>
</file>